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995-C88E-43AB-83D3-903556E6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E2F-3382-4760-BCF6-09900AFC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546-D26F-437B-A4C2-91253C8B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FCC-ADD1-403B-97DE-22259BFE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EBED-8498-40E7-B8F2-4BF2509F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1744-92BC-4D01-A3F7-776B89C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03F2-5382-4832-A8BA-F25C4FB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C8A-E995-4ABA-A144-CF959F56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D0F-B490-4308-877D-052DA845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42720" y="228600"/>
            <a:ext cx="6172200" cy="84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CBB0-64D9-4318-95DE-31FE9D4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9D7E-246E-47ED-BDC9-AF7AE2A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3D0-CA88-4C09-97CA-D926AC8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ED1D-7759-4448-885D-B8EDA4F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7FED-9766-4A86-8E40-8578E35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A2B-819C-45A2-9F4D-157AA96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0FE-1B15-4893-B39C-FC79B9D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58E7-9E25-4542-848D-037880DA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089-CE5E-4FB4-A308-72364648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77B-1EA4-4DF0-BBA1-AF909657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294-29F4-46F0-B3E2-5DF2B5F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2720" y="228600"/>
            <a:ext cx="6172200" cy="84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1CA-FC91-47B2-909C-B869C6AF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D52-0B0E-451B-9F87-7D22421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F6D-04C0-4F12-B4B9-70E6D04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86B-B97C-428F-9105-6029C7C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6560" cy="9896040"/>
            <a:chOff x="0" y="0"/>
            <a:chExt cx="6856560" cy="9896040"/>
          </a:xfrm>
        </p:grpSpPr>
        <p:sp>
          <p:nvSpPr>
            <p:cNvPr id="1" name=""/>
            <p:cNvSpPr/>
            <p:nvPr/>
          </p:nvSpPr>
          <p:spPr>
            <a:xfrm>
              <a:off x="2157480" y="6445440"/>
              <a:ext cx="4698720" cy="345024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792680" y="8316360"/>
              <a:ext cx="2063520" cy="1579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6642000" cy="790344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884920" y="0"/>
              <a:ext cx="971280" cy="6325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4548960"/>
              <a:ext cx="6856560" cy="481032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233640"/>
              <a:ext cx="2334960" cy="290016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5607360" cy="6652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492800" cy="540180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3492720" cy="423252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5720" y="6527520"/>
              <a:ext cx="1777680" cy="46764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228600" y="5236920"/>
              <a:ext cx="1492920" cy="2115720"/>
              <a:chOff x="228600" y="5236920"/>
              <a:chExt cx="1492920" cy="2115720"/>
            </a:xfrm>
          </p:grpSpPr>
          <p:sp>
            <p:nvSpPr>
              <p:cNvPr id="14" name=""/>
              <p:cNvSpPr/>
              <p:nvPr/>
            </p:nvSpPr>
            <p:spPr>
              <a:xfrm>
                <a:off x="485640" y="6898680"/>
                <a:ext cx="55800" cy="133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85760" y="5236920"/>
                <a:ext cx="385560" cy="37116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28600" y="5236920"/>
                <a:ext cx="1492920" cy="211572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13960" y="6211080"/>
                <a:ext cx="56160" cy="17856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8560" y="5897160"/>
                <a:ext cx="177120" cy="9601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357200" y="5580360"/>
                <a:ext cx="198720" cy="3164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28600" y="5305320"/>
                <a:ext cx="134640" cy="26136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335960" y="5910480"/>
                <a:ext cx="78480" cy="1375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21400" y="6130800"/>
                <a:ext cx="191520" cy="410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77320" y="6334560"/>
                <a:ext cx="86760" cy="1234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42680" y="6623640"/>
                <a:ext cx="14040" cy="1234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85720" y="6926400"/>
                <a:ext cx="56880" cy="1645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20200" y="6939720"/>
                <a:ext cx="342720" cy="19260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85680" y="6884640"/>
                <a:ext cx="78480" cy="24768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35600" y="7132680"/>
                <a:ext cx="91800" cy="96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92560" y="7256520"/>
                <a:ext cx="78480" cy="684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000080" y="6692400"/>
                <a:ext cx="21600" cy="1375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9800" y="6926400"/>
                <a:ext cx="6840" cy="410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35760" y="6747480"/>
                <a:ext cx="35640" cy="1785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42600" y="6967440"/>
                <a:ext cx="28440" cy="55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53280" y="6146640"/>
                <a:ext cx="255960" cy="49536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37920" y="6213240"/>
                <a:ext cx="252000" cy="410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234440" y="5981760"/>
                <a:ext cx="75960" cy="18072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032120" y="5664960"/>
                <a:ext cx="163080" cy="4744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72720" y="5747760"/>
                <a:ext cx="77040" cy="50868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D31-8B54-4A56-8A6D-3F74900C9A68}" type="slidenum">
              <a:rPr b="0" lang="en-N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6856560" cy="9896040"/>
            <a:chOff x="0" y="0"/>
            <a:chExt cx="6856560" cy="9896040"/>
          </a:xfrm>
        </p:grpSpPr>
        <p:sp>
          <p:nvSpPr>
            <p:cNvPr id="81" name=""/>
            <p:cNvSpPr/>
            <p:nvPr/>
          </p:nvSpPr>
          <p:spPr>
            <a:xfrm>
              <a:off x="2157480" y="6445440"/>
              <a:ext cx="4698720" cy="345024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2680" y="8316360"/>
              <a:ext cx="2063520" cy="1579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6642000" cy="790344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4920" y="0"/>
              <a:ext cx="971280" cy="6325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548960"/>
              <a:ext cx="6856560" cy="481032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233640"/>
              <a:ext cx="2334960" cy="290016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5607360" cy="6652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4492800" cy="540180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3492720" cy="423252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720" y="6527520"/>
              <a:ext cx="1777680" cy="46764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8600" y="5236920"/>
              <a:ext cx="1492920" cy="2115720"/>
              <a:chOff x="228600" y="5236920"/>
              <a:chExt cx="1492920" cy="2115720"/>
            </a:xfrm>
          </p:grpSpPr>
          <p:sp>
            <p:nvSpPr>
              <p:cNvPr id="94" name=""/>
              <p:cNvSpPr/>
              <p:nvPr/>
            </p:nvSpPr>
            <p:spPr>
              <a:xfrm>
                <a:off x="485640" y="6898680"/>
                <a:ext cx="55800" cy="133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85760" y="5236920"/>
                <a:ext cx="385560" cy="37116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5236920"/>
                <a:ext cx="1492920" cy="211572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13960" y="6211080"/>
                <a:ext cx="56160" cy="17856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28560" y="5897160"/>
                <a:ext cx="177120" cy="9601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7200" y="5580360"/>
                <a:ext cx="198720" cy="3164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28600" y="5305320"/>
                <a:ext cx="134640" cy="26136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35960" y="5910480"/>
                <a:ext cx="78480" cy="1375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21400" y="6130800"/>
                <a:ext cx="191520" cy="410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77320" y="6334560"/>
                <a:ext cx="86760" cy="1234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2680" y="6623640"/>
                <a:ext cx="14040" cy="1234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" y="6926400"/>
                <a:ext cx="56880" cy="1645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0200" y="6939720"/>
                <a:ext cx="342720" cy="19260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85680" y="6884640"/>
                <a:ext cx="78480" cy="24768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5600" y="7132680"/>
                <a:ext cx="91800" cy="96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2560" y="7256520"/>
                <a:ext cx="78480" cy="684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00080" y="6692400"/>
                <a:ext cx="21600" cy="1375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9800" y="6926400"/>
                <a:ext cx="6840" cy="410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5760" y="6747480"/>
                <a:ext cx="35640" cy="1785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2600" y="6967440"/>
                <a:ext cx="28440" cy="55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53280" y="6146640"/>
                <a:ext cx="255960" cy="49536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7920" y="6213240"/>
                <a:ext cx="252000" cy="410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34440" y="5981760"/>
                <a:ext cx="75960" cy="18072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32120" y="5664960"/>
                <a:ext cx="163080" cy="4744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72720" y="5747760"/>
                <a:ext cx="77040" cy="50868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9088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F1A-CA7A-4563-9E69-3DC5A2F49752}" type="slidenum">
              <a:rPr b="0" lang="en-N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6280" y="99216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49360" y="3368520"/>
            <a:ext cx="568800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L2 NC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chievement Standard 2.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ext Book reference: Chapters 2-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inemat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o solve problems involving objects moving in straight lines with constant accele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erms us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d=distance/displacement (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initial velocity (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final velocity (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=acceleration (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=time 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inemat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84280" y="2576520"/>
                <a:ext cx="35989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84280" y="3800520"/>
                <a:ext cx="360036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5989680"/>
                <a:ext cx="44337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25360" y="7400880"/>
                <a:ext cx="47530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773360" y="92012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33 Questions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vector is drawn as a straight, arrowed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arrow points in the direction of the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length of the line represents the size of the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765000" y="653724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1360" y="7473960"/>
            <a:ext cx="1295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645000" y="6897240"/>
            <a:ext cx="718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9000" y="88408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ectors can be multiplied or divided by a sca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will change the length of the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negative scalar will reverse the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 Force 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o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2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1/2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-3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99920" y="5889600"/>
            <a:ext cx="2737080" cy="1727280"/>
            <a:chOff x="3499920" y="5889600"/>
            <a:chExt cx="2737080" cy="1727280"/>
          </a:xfrm>
        </p:grpSpPr>
        <p:sp>
          <p:nvSpPr>
            <p:cNvPr id="235" name=""/>
            <p:cNvSpPr/>
            <p:nvPr/>
          </p:nvSpPr>
          <p:spPr>
            <a:xfrm>
              <a:off x="3860640" y="588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33720" y="64659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9720" y="69692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499920" y="761688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9920" y="1424160"/>
            <a:ext cx="6255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ctors can be added toge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is is done by drawing them “head to tail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result is a vector called a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resultant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. The resultant has the same effect as the 2 vectors comb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order in which they are added does not mat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Eg 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+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557360" y="5745240"/>
            <a:ext cx="4392360" cy="3629880"/>
            <a:chOff x="1557360" y="5745240"/>
            <a:chExt cx="4392360" cy="3629880"/>
          </a:xfrm>
        </p:grpSpPr>
        <p:sp>
          <p:nvSpPr>
            <p:cNvPr id="242" name=""/>
            <p:cNvSpPr/>
            <p:nvPr/>
          </p:nvSpPr>
          <p:spPr>
            <a:xfrm>
              <a:off x="1557360" y="6701040"/>
              <a:ext cx="257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7240" y="5745240"/>
              <a:ext cx="0" cy="15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36760" y="7846200"/>
              <a:ext cx="0" cy="15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57360" y="7846200"/>
              <a:ext cx="257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7360" y="7846200"/>
              <a:ext cx="2579400" cy="15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1360" y="6126120"/>
              <a:ext cx="85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82280" y="6126120"/>
              <a:ext cx="66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43560" y="8610840"/>
              <a:ext cx="124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+ 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ectors can be subtra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is done by adding a negative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Order does ma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97000" y="5240160"/>
            <a:ext cx="4392720" cy="3630600"/>
            <a:chOff x="1197000" y="5240160"/>
            <a:chExt cx="4392720" cy="3630600"/>
          </a:xfrm>
        </p:grpSpPr>
        <p:sp>
          <p:nvSpPr>
            <p:cNvPr id="253" name=""/>
            <p:cNvSpPr/>
            <p:nvPr/>
          </p:nvSpPr>
          <p:spPr>
            <a:xfrm>
              <a:off x="1197000" y="6195960"/>
              <a:ext cx="25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27600" y="5240160"/>
              <a:ext cx="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776760" y="7342200"/>
              <a:ext cx="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97000" y="8854920"/>
              <a:ext cx="25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97000" y="7342200"/>
              <a:ext cx="257976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51000" y="5621040"/>
              <a:ext cx="85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2640" y="562104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57360" y="7702560"/>
              <a:ext cx="124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- 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33720" y="7991280"/>
              <a:ext cx="107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-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ectors can be resolved into compon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is done using SOHCAHTOA and/or a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c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20640" y="5097600"/>
            <a:ext cx="5732640" cy="3895920"/>
            <a:chOff x="620640" y="5097600"/>
            <a:chExt cx="5732640" cy="3895920"/>
          </a:xfrm>
        </p:grpSpPr>
        <p:sp>
          <p:nvSpPr>
            <p:cNvPr id="265" name=""/>
            <p:cNvSpPr/>
            <p:nvPr/>
          </p:nvSpPr>
          <p:spPr>
            <a:xfrm>
              <a:off x="1817640" y="509760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7640" y="8553600"/>
              <a:ext cx="453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817640" y="5600880"/>
              <a:ext cx="3456000" cy="29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73640" y="5600880"/>
              <a:ext cx="0" cy="29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817640" y="56008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17640" y="8553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817640" y="5600880"/>
              <a:ext cx="0" cy="29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94000" y="86252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Horizontal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0640" y="6032880"/>
              <a:ext cx="1557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ert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44920" y="63216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4000" y="812196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81280" y="7977600"/>
              <a:ext cx="201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89000" y="9539280"/>
            <a:ext cx="33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43 Questions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lativ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8942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velocity of one object in relation to another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velocity an object appears to move at may change if the object measuring is also mov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velocity of B relative to A can be calculated by doing this vector subtraction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125360" y="6969240"/>
                <a:ext cx="4535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el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700280" y="91296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49 Questions 3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71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force causes the motion or shape of an object to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orce is a vector quantity so must have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both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a size and a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orce is measured in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Newtons 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resultant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(or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 force is produced when 2 or more forces act on an object. These forces can be added to find the resul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10280" cy="71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Newtons First Law Of Moti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NZ" sz="2800" spc="-1" strike="noStrike">
                <a:solidFill>
                  <a:srgbClr val="000000"/>
                </a:solidFill>
                <a:latin typeface="Verdana"/>
              </a:rPr>
              <a:t>An object will remain in it’s current state of motion until a force acts to change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Newton’s Second Law Of Moti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NZ" sz="2800" spc="-1" strike="noStrike">
                <a:solidFill>
                  <a:srgbClr val="000000"/>
                </a:solidFill>
                <a:latin typeface="Verdana"/>
              </a:rPr>
              <a:t>The acceleration of an object is proportional to the net force appl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Law 2 can be written like this for shor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773360" y="7689960"/>
                <a:ext cx="30096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calar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scalar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quantity is one that has a size (or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magnitude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Mass, energy,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vector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quantity is one that has a size </a:t>
            </a:r>
            <a:r>
              <a:rPr b="0" i="1" lang="en-NZ" sz="3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a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Force, velocity, moment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Newton’s Third Law Of Motion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Verdana"/>
              </a:rPr>
              <a:t>For every action there is an equal and opposite reac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3000" y="178452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Fri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iction occurs when two surfaces move past each other. One of these surfaces could be air – eg air resistance is a frictional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iction is a force that always opposes the direction of the mo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iction is sometimes called: drag, water resistance, air resistance or the retarding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-90972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49360" y="1064880"/>
            <a:ext cx="5533920" cy="82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Tens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is is the force that occurs in connecting strings and ro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ension pulls in both directions along the string or ro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Weigh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is is the force of gravity pulling downwards on an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Weight can be calcula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g is acceleration due to gravity and has a value of 10ms</a:t>
            </a:r>
            <a:r>
              <a:rPr b="0" lang="en-NZ" sz="28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on 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133720" y="6681960"/>
                <a:ext cx="3009960" cy="12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700280" y="9539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55 Questions 4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596556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orque causes things to sp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ymbol: 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(Greek letter Ta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Units: N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size of a torque depends on the size of the force and the perpendicular distance from the pivot to where the force is appli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89000" y="8048520"/>
                <a:ext cx="3009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3259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n object is at equilibrium if it is at rest or moving uniformly (First Law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wo conditions app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ll the forces acting on the  object must add to zero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ll the torques acting on the object must add to zer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2060640" y="6969240"/>
            <a:ext cx="3384360" cy="2414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700280" y="93456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63 Questions 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amount of “ooomph” an object ha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omentum depends on the mass of an object and it’s veloc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ymbol: 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Unit: kg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omentum is a vect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omenum can be calculated us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628640" y="7905600"/>
                <a:ext cx="381636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4280" y="2215800"/>
            <a:ext cx="61722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a force acts on an object, it’s momentum will 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change in momentum can be calculated by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ubtracting vect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Change in momentum =final momentum – initial momentu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52640" y="7616880"/>
                <a:ext cx="5040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When a resultant force acts on an object, the amount it changes the object’s momentum by depends on how long the force acts f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force multiplied by the time it acts for is called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impulse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Units: 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Impulse equals the change in moment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628640" y="7905600"/>
                <a:ext cx="381636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Δt</m:t>
                    </m:r>
                    <m:r>
                      <m:t xml:space="preserve">=</m:t>
                    </m:r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268280" y="93456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73 Questions 5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81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conservation of momentum principle states: Momentum is conserved in collisions and explosions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as long as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there is no net external force acting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means the momentum before equals the momentum af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60280" y="7616880"/>
                <a:ext cx="6597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same principle applies in 2 dimens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vector representing the sum of the momentums before must be the same vector as the one representing the sums af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1628640" y="90565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79 Questions 5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0640" y="2289240"/>
          <a:ext cx="5607000" cy="3195360"/>
        </p:xfrm>
        <a:graphic>
          <a:graphicData uri="http://schemas.openxmlformats.org/drawingml/2006/table">
            <a:tbl>
              <a:tblPr/>
              <a:tblGrid>
                <a:gridCol w="2803320"/>
                <a:gridCol w="2803680"/>
              </a:tblGrid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cal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r in total the object has mo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92280" y="5745240"/>
          <a:ext cx="5472000" cy="33559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ve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r the object ends up from it’s starting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 due to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920" y="2288880"/>
            <a:ext cx="5894280" cy="65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ll objects accelerate towards the ground at (-) 1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because of gravity when dropp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acceleration is fairly constant at the Earth’s surface, but varies at great altitudes or on other planet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Gravity is always an attractive force unlike magnetism or electric for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700280" y="91296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86 Questions 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2720" y="1496520"/>
            <a:ext cx="6172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Projectile motion is a parabolic shaped motion experienced by moving objects that have only the force due to gravity acting on them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Bullets,shotputs,netballs, water j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9360" y="6321600"/>
            <a:ext cx="5832360" cy="3311280"/>
            <a:chOff x="549360" y="6321600"/>
            <a:chExt cx="5832360" cy="3311280"/>
          </a:xfrm>
        </p:grpSpPr>
        <p:sp>
          <p:nvSpPr>
            <p:cNvPr id="324" name=""/>
            <p:cNvSpPr/>
            <p:nvPr/>
          </p:nvSpPr>
          <p:spPr>
            <a:xfrm>
              <a:off x="549360" y="6321600"/>
              <a:ext cx="5832360" cy="33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30440" y="6681600"/>
              <a:ext cx="2087640" cy="287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57360" y="8121600"/>
              <a:ext cx="2305080" cy="15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1720" y="812160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09720" y="6824520"/>
              <a:ext cx="1871640" cy="25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5000" y="8121600"/>
              <a:ext cx="2160720" cy="136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9720" y="6824520"/>
              <a:ext cx="936360" cy="129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82440" y="8121600"/>
              <a:ext cx="23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65360" y="7329240"/>
              <a:ext cx="730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02080" y="7184880"/>
              <a:ext cx="716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33000" y="1639800"/>
            <a:ext cx="617220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When dealing with projectiles, the horizontal and vertical components are treated separate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horizontal motion is constant velocity (as there are no forces acting in this direction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vertical motion is constant acceleration of 1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due to the force of grav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Kinematic Equations are used to solve probl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92012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89 Questions 6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8156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Period of Rotation T - time it takes to make one rotation (revolution, cycl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easured in seconds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equency f – number of rotations completed per seco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easured in Hertz Hz or 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 and f are inverses of each 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500280" y="7184880"/>
                <a:ext cx="206712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59655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Circumference – distance travelled in one rotation (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speed of an object moving in a circle can be calculated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052640" y="4089240"/>
                <a:ext cx="51130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rcumferenc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97000" y="7545240"/>
                <a:ext cx="41767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n object moving in a circle may be travelling at constant speed, but because its direction is always changing, its velocity is changing…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velocity is changing, the object is accelerating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an object is accelerating, there must be a net force acting on it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force acting on an object in circular motion is in towards the centre of the circle, changing the objects direction but not its spe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is called centripetal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force causes a centripetal acceleration towards the centre of the circ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5175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Centripetal force and acceleration can be calculated using the following formula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=speed(ms</a:t>
            </a:r>
            <a:r>
              <a:rPr b="0" lang="en-NZ" sz="2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r=radius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005360" y="3657600"/>
                <a:ext cx="259236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6321600"/>
                <a:ext cx="3009960" cy="19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557360" y="91296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98 Questions 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9920" y="2289240"/>
            <a:ext cx="6264360" cy="69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three kinds of mechanical energy are: kinetic, gravitational and elasti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nergy E is measured in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Joules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Work W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is the process of transforming energy from one kind to an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d is the distance moved in the direction of the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844640" y="6753240"/>
                <a:ext cx="300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51492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an object is lifted against gravity, work is done transforming chemical energy(muscles) into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gravitational potential energy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force needed is the weight force of the object, the distance moved is the change in heigh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68280" y="7545240"/>
                <a:ext cx="47530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</m:acc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  <m:r>
                          <m:t xml:space="preserve">Δ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20640" y="2289240"/>
          <a:ext cx="5616720" cy="302400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cal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st an object is trav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s</a:t>
                      </a:r>
                      <a:r>
                        <a:rPr b="0" lang="en-NZ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49360" y="6032520"/>
          <a:ext cx="5688000" cy="2808360"/>
        </p:xfrm>
        <a:graphic>
          <a:graphicData uri="http://schemas.openxmlformats.org/drawingml/2006/table">
            <a:tbl>
              <a:tblPr/>
              <a:tblGrid>
                <a:gridCol w="2808360"/>
                <a:gridCol w="287964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Ve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speed and direction that an object is trav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 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s</a:t>
                      </a:r>
                      <a:r>
                        <a:rPr b="0" lang="en-NZ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8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ny moving object ha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kinetic energ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Doubling the speed increases the energy by four. (Squared relationshi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When moving objects stop, this energy is transformed into other forms, eg sound, h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484280" y="7689960"/>
                <a:ext cx="453564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815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Power P is the rate at which work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easured in Watts W (or J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133720" y="4808520"/>
                <a:ext cx="233028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conservation of energy principle states: Energy cannot be created or destroyed, only transformed from one kind to an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514920" cy="45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Often some of the forms it is transformed into are not useful. The energy is “lost” to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efficiency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of an object is a measure of the ratio of input energy to useful output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0" y="6681960"/>
                <a:ext cx="6597720" cy="102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cy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seful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utpu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nergy</m:t>
                              </m:r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pu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nergy</m:t>
                              </m:r>
                            </m:e>
                          </m:mr>
                        </m:m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nergy can be stored in a spring a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elastic potential energy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ookes Law: F=k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=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k=spring constant (Nm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 – a measure of how stiff or soft a spring 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x=extension (m) – the amount a spring is stretched or compressed when the force is appli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75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ooke’s Law as a graph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76280" y="3081240"/>
            <a:ext cx="5832360" cy="5471640"/>
            <a:chOff x="476280" y="3081240"/>
            <a:chExt cx="5832360" cy="5471640"/>
          </a:xfrm>
        </p:grpSpPr>
        <p:grpSp>
          <p:nvGrpSpPr>
            <p:cNvPr id="375" name=""/>
            <p:cNvGrpSpPr/>
            <p:nvPr/>
          </p:nvGrpSpPr>
          <p:grpSpPr>
            <a:xfrm>
              <a:off x="476280" y="3081240"/>
              <a:ext cx="5832360" cy="5471640"/>
              <a:chOff x="476280" y="3081240"/>
              <a:chExt cx="5832360" cy="5471640"/>
            </a:xfrm>
          </p:grpSpPr>
          <p:sp>
            <p:nvSpPr>
              <p:cNvPr id="376" name=""/>
              <p:cNvSpPr/>
              <p:nvPr/>
            </p:nvSpPr>
            <p:spPr>
              <a:xfrm>
                <a:off x="476280" y="3081240"/>
                <a:ext cx="5832360" cy="54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97000" y="4069080"/>
                <a:ext cx="0" cy="395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97000" y="7702560"/>
                <a:ext cx="439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00280" y="5060880"/>
                <a:ext cx="180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Verdana"/>
                  </a:rPr>
                  <a:t>Gradient =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92640" y="779832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Verdana"/>
                  </a:rPr>
                  <a:t>Extension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560" y="3461760"/>
                <a:ext cx="25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Verdana"/>
                  </a:rPr>
                  <a:t>Force (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H="1">
              <a:off x="1197000" y="3929760"/>
              <a:ext cx="4248000" cy="3745800"/>
            </a:xfrm>
            <a:prstGeom prst="rtTriangle">
              <a:avLst/>
            </a:prstGeom>
            <a:solidFill>
              <a:srgbClr val="cdcd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7000" y="638208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Area under graph = energy stored in sp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096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lastic potential energy can be found by calculating the area under a Hooke’s Law grap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549600" y="3192480"/>
                <a:ext cx="3308400" cy="31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</m:e>
                      <m:e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x</m:t>
                        </m:r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</m:acc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197000" y="905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107 Questions 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3000" y="1784160"/>
            <a:ext cx="6172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 person sits in a car with a suspension of spring constant 10</a:t>
            </a:r>
            <a:r>
              <a:rPr b="0" lang="en-NZ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NZ" sz="4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If the suspension is compressed 1.0 cm how much energy is stored in the sp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1/2kx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0.5 x 10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x (0.01)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0.5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965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locity is calculated b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4640" y="4665600"/>
            <a:ext cx="6110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Where d is displacement, t is time and </a:t>
            </a:r>
            <a:r>
              <a:rPr b="0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means “the change in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locity may refer to either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average 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locity or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instantaneous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veloc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Constant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velocity means that neither the speed </a:t>
            </a: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nor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the direction of the objects motion is chang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28640" y="3152880"/>
                <a:ext cx="3009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locit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d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4640" y="5889600"/>
            <a:ext cx="6120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Acceleration can be calculate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76280" y="2311560"/>
          <a:ext cx="6039000" cy="3195360"/>
        </p:xfrm>
        <a:graphic>
          <a:graphicData uri="http://schemas.openxmlformats.org/drawingml/2006/table">
            <a:tbl>
              <a:tblPr/>
              <a:tblGrid>
                <a:gridCol w="3019320"/>
                <a:gridCol w="3019680"/>
              </a:tblGrid>
              <a:tr h="23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l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Ve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rate at which the velocity of an object is chan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 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s</a:t>
                      </a:r>
                      <a:r>
                        <a:rPr b="0" lang="en-NZ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5000" y="7040520"/>
                <a:ext cx="23954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1722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784520"/>
            <a:ext cx="6172200" cy="77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cceleration is used to describe motion where the object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slows down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as well as when it speeds up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ometimes the wor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deceleration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cceleration is given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negative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value when the object is slowing dow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Objects are accelerating when their direction changes, even though their speed may remain cons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484280" y="92743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27Questions 2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280" y="272520"/>
            <a:ext cx="61722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raph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3360" y="1423800"/>
            <a:ext cx="61819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Verdana"/>
              </a:rPr>
              <a:t>Distance / diplacement versus tim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0" y="6753240"/>
            <a:ext cx="68580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A=Constant velocity (slo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B=Constant velocity (fas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C=Stop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D=Constant velocity (backwa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E=Constant velocity (backward past starting poi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6280" y="2432160"/>
            <a:ext cx="5832360" cy="4176720"/>
            <a:chOff x="476280" y="2432160"/>
            <a:chExt cx="5832360" cy="4176720"/>
          </a:xfrm>
        </p:grpSpPr>
        <p:sp>
          <p:nvSpPr>
            <p:cNvPr id="185" name=""/>
            <p:cNvSpPr/>
            <p:nvPr/>
          </p:nvSpPr>
          <p:spPr>
            <a:xfrm>
              <a:off x="476280" y="2432160"/>
              <a:ext cx="5832360" cy="41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96640" y="3186720"/>
              <a:ext cx="0" cy="30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6640" y="475308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196640" y="4288680"/>
              <a:ext cx="93492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9560" y="365076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4640" y="3650760"/>
              <a:ext cx="1655280" cy="21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131920" y="3650760"/>
              <a:ext cx="647280" cy="6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9560" y="4289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1920" y="3708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23920" y="335916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76280" y="4056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39920" y="50983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920" y="44604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560" y="272232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isplacement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4280" y="344160"/>
            <a:ext cx="6172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raph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280" y="1352160"/>
            <a:ext cx="6039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Speed / velocity versus tim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0" y="6176520"/>
            <a:ext cx="6524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A=Constant acceleration (lo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B=Constant acceleration (hig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C=Constant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D=Constant deceleration to st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E=Constant acceleration in opposit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49360" y="2000160"/>
            <a:ext cx="5832360" cy="4176720"/>
            <a:chOff x="549360" y="2000160"/>
            <a:chExt cx="5832360" cy="4176720"/>
          </a:xfrm>
        </p:grpSpPr>
        <p:sp>
          <p:nvSpPr>
            <p:cNvPr id="203" name=""/>
            <p:cNvSpPr/>
            <p:nvPr/>
          </p:nvSpPr>
          <p:spPr>
            <a:xfrm>
              <a:off x="549360" y="2000160"/>
              <a:ext cx="5832360" cy="41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9720" y="2754720"/>
              <a:ext cx="0" cy="30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9720" y="432108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69720" y="3856680"/>
              <a:ext cx="93492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2640" y="321876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17720" y="3218760"/>
              <a:ext cx="1655280" cy="21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205000" y="3218760"/>
              <a:ext cx="647280" cy="6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12640" y="3857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5000" y="3276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97000" y="292716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9360" y="3624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3000" y="46663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13000" y="40284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0640" y="229032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elocity (ms</a:t>
              </a:r>
              <a:r>
                <a:rPr b="0" lang="en-NZ" sz="1800" spc="-1" strike="noStrike" baseline="30000">
                  <a:solidFill>
                    <a:srgbClr val="000000"/>
                  </a:solidFill>
                  <a:latin typeface="Verdana"/>
                </a:rPr>
                <a:t>-1</a:t>
              </a: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197000" y="92743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32 Questions2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54:32Z</dcterms:created>
  <dc:creator>Administrator</dc:creator>
  <dc:description/>
  <dc:language>en-US</dc:language>
  <cp:lastModifiedBy>Administrator</cp:lastModifiedBy>
  <dcterms:modified xsi:type="dcterms:W3CDTF">2005-03-24T01:18:00Z</dcterms:modified>
  <cp:revision>16</cp:revision>
  <dc:subject/>
  <dc:title>Slide 1</dc:title>
</cp:coreProperties>
</file>